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06D-B7A7-4B1F-AB0C-23E800C3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D95-4435-463B-982F-E3F3142B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C3EF-136F-4388-B942-42490513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3A04-E5D5-4332-B492-27C2E50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B2DF-F42D-46B6-9860-F34E22A4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80205-D815-47C2-8CAF-932D7BB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F72D-CABE-4B6A-B2BF-986795A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94BC2-C359-4FB6-AC1F-124CEBB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75921-CD35-4331-928B-73987587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472BB-505B-4F5B-8F87-D05C679D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59A44-C6B3-458D-BAEF-FFCE0FE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BA12-30D3-47D8-ABD0-EB7C7AB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40B-518E-460A-8423-5FF3A04B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C4D72-7F80-43DD-9844-1A20B1CA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3212B-8C44-4981-9195-D9D79634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4F8E0-ABAA-4422-BD98-3C3D9337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188FB-9D5E-406D-BBED-76B0B9A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F005-2A4F-4BCA-A96A-2E6154B1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C588E-05C2-4DBA-A054-AFBEDF4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37A9B-62CA-41BE-814E-F3D5192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408E0-FC80-41E9-B9CF-CC246FA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819F1-8739-4C20-9CB4-4B41A0C3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DFC69-873A-410E-AC3A-1F21D17F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F0C-4EF4-4B42-B302-01CA86DE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7C53C-8AF7-45AE-82BC-3566D1B9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A84B8-EB84-4F51-8356-0B6E83A6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B038B-48F7-480B-B944-FA9B6F5F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DAD62-FF3E-4C5E-AD66-2A9FA7FB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4834D-09C7-45CF-A847-0FB0CF9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68D14-CA12-465E-9862-7DE2CF2A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A75B3-78E2-4FA3-BA9F-A9F44372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3B5D8-6302-4616-834E-79FC5E85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A78B2-B4BE-4EDC-97B7-E83F8B0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69C11-05B7-4751-8BBD-F3F0835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E028-63AA-4320-9DF9-A9156DE0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255B-C7DF-49DD-A292-02AFBF2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92449-F93C-41E4-AA0E-8E6140EA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1F000-FDB3-404E-833E-77DDCA78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439DC-B397-4796-813E-F80ADF97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2EC0D-EA53-40A1-B66D-659D1FD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2004B-9CDE-4ABA-A59E-812DBE1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72C67-AC24-409C-AFBC-F0F9EF1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E8EEF-C16E-48DE-B194-D61E3F7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5A9E6-4964-4AA7-AC4C-EAC50389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DA131-A1D5-43D5-B978-90E9E97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50E0-F441-48B1-B3DE-2C605DB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B4BC2-FB20-45AD-9358-FDF2B9BD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6724-917B-4791-A72E-C879E4D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7F7A5-5C10-4D68-A466-4BE6575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356DF-DD04-4714-B67E-0EC797D7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5F8E6-2C99-4B45-8AF4-F0EBF23E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40873-9A33-4591-8E2E-06C9E569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AE215-2D4B-4C45-B9E4-96CD803D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E6A59-B732-4D16-A43D-C5E182BF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51AD7-F013-4C85-A736-D3E134C5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D4DC-4CF9-4187-9766-3F93EC7F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C4BB-EAF8-43B5-A432-69DDD159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AEBEE-BB1F-47B5-A942-627C7F48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AEB60-5426-40C6-8878-452A3B7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F108E-5E29-4530-B465-EEDBEEA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C6D6D-9B53-49AA-BC5D-4AD43CC5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FAEB8-EA59-410D-B11D-10B682A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423CF-F603-419D-8406-A05B6220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9045-5208-4DDA-A0BB-8686E838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BD9F5-D418-4346-A5AD-2E9ECC07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B3545-0387-48B6-98E3-D13037F6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3F3D5-8CD2-4DD9-B1EE-D2CFA9D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C944-8138-49CC-81CF-B3E4828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3D1F0-B297-488F-81F4-C35B045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B4D6C-8119-4800-ACB7-08870E95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5C9A4-F8C2-4B1D-AB7E-0D833C3C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DF997-A78C-4E0A-8EA5-BBBF89B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CD5E3-8CED-47C8-A36C-0F53A20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A7D57-3A93-4B31-86B1-DDD8502D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C9635-6CDB-4522-895D-436A856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FAE9F-C6F7-4C30-ADBE-41E662DF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07539-A250-4E4D-9333-9B871639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C8609-4F8F-4719-BB89-E6B4B26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731F-B5AA-4327-B53C-D98D802E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23AE8-76EA-4E96-B4C7-24114F66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980DC-1F9B-4345-A365-4EC1B40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DC553-9268-4BBF-91CD-872179D5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B2351-F6A3-4F5E-9BAE-89423A40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41756-9901-44B0-B106-DC705F2F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D5125-329D-4D35-B0EA-F00196E9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A438D-749C-40CB-AD61-EBBC36A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068BC-898A-4EF7-A56F-21ACA93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C5830-7E4B-4FCD-A225-28D0BACA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B5E9B-4CE2-4720-A194-DDE5B75C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A1A0-C5ED-4AA8-9AD1-A931D7AC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C64FF-C592-4590-A9DA-0B45D3E2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EC178-840D-49CB-A59B-D9089CDB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3A4BE-5B32-46B6-B7BC-0C92C0E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6A56A-D177-4498-A1D0-91A68DA8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CB093-6A5C-49D7-8AA9-6D038910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0D8B8-AD45-4FF1-96BE-BB7FCA40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AB5A7-30F5-43D3-B1D8-D89E360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933ED-7E48-4E69-8A97-E3165C9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224D1-84B5-412E-9635-740B49D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77B53-3E06-4832-A69F-322D623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A1AC-0875-4FD5-9E38-959ACC1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DD89E-8ED0-4E41-B2FA-9EF6331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A456D-8F03-4059-AFB0-A4BAE027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F91C6-9871-4DA5-AF7C-0ADB37EA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D23FC-1C96-419E-AB64-957A4CF6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CBCEB-38AB-457F-96CF-8B3BBBDF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4729F-A15D-410D-B06F-4CF088D6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F5059-E43C-4566-88B0-BF6B38ED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9D299-46CE-4CF4-815E-C2BD09DE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41167-77E1-4813-8C3B-F20C6B3E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1A8D8-80D0-4D44-ABFC-BB617F26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509-D9EB-41A7-8850-4E815F69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9C8C-F2B4-443C-9CE8-D696EE0D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21757-ECCD-4E75-83AC-C2C049EB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CECA7-5B3B-4A52-9763-A01E575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8CE7B-AC42-41E4-BCBD-CCBD690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5E2FB-77FE-43E3-ACA3-0CCF8B8E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B3F0F-373C-4918-A657-7C19811C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DB750-8A1A-4B7B-9455-0ADDDAB7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60ECD-0ECE-4CE2-BC99-FE3CB46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92C8F-F22C-4861-B510-9EA16CF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3694E-4D6F-4BE4-B232-600F1B68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1B305-AF15-431C-AD54-92457AAF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DFA-6F30-44FA-9B90-35DA466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04D65-6B64-40F0-A8E0-50CEAA9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8AB2B-3F21-4BF2-805B-A5BF1BD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A3C2D-4359-4AC3-8137-B35843B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272CF-FDA6-4767-810B-CDD4209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000DB-D10D-42F6-8803-D9BC742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6EDB7-2971-4283-9A36-1537B119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B9F07-6C40-44AA-9880-D78B1085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4B93B-EA19-4AC2-9F1E-40817056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7F4F3-1F77-49BF-BA17-E5CAEFB0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53E3E-5356-43B0-B411-325FED9D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88C9-7407-4B54-8653-62F54D62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D784D-9E97-4931-9F7C-4095F20B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DB828-28FD-4146-A2D8-3C404D0B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C7C66-F3D4-4B7C-B595-6CF0E4D7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D1A7B-2A48-44ED-92B6-CABB098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516A8-4EB7-4CCD-9922-762ED4D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2759B-885C-4C11-8085-4835CEC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E137B-1D33-43E2-816D-748B32E5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6A79D-B818-4371-9F08-14B34EA0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FE537-0DA6-43EF-8071-EA017AB4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3D592-B8EC-44EE-AB8E-2B4F65BE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AAAC-DC2C-4A72-BA3E-6E2D445C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1231E-F372-4322-8A3C-5324F23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1846A-925E-4311-A852-39E7DC9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7B2DA-8E6C-4A84-B925-93687A1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48EC9-5E01-46AA-82B1-541A2FC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6F66B-25EE-4A27-B9CF-42A9448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A8848-2238-445F-8FEC-37558A1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6BD882-6525-4139-8D2D-7FF485B2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8B5A3-96F3-4BBD-98DD-E098358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04C81C-5F40-45C3-9C71-85B056C1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BDBEB-5FEC-4469-92DE-6826D840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10E2-B23B-426C-9E81-02C538B2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BFB47-3210-4AE0-8DC2-541DFDA1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2384A-90BF-49A5-A394-AE5D8DE5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F1EA2-24CD-42AA-98B5-C0A832EE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1D6D1-7D85-45E5-8715-BA505A1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67EF6-0EFE-4C71-9E8F-3FFC4334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8FC52-A68B-4110-AD80-EFECE827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91630-7548-4F54-B810-74869924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9F68F-761E-4959-90F8-9B6EE3F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2B4A1-6547-47E1-8F8B-7700666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2EC40-4F56-4D83-90F2-7105DEF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78BF5-D0B8-48AF-8AD9-B5A5C306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2B50B-6D9C-413D-89FD-8E7E78D5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67D22-4B77-46B4-A59B-84AEE52C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E20-BA55-4330-8686-0DDEA42E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0F93-16A6-42B7-B073-97E78A97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F5B8-4D49-4195-8AAE-63998E8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68CC-E61F-4CB5-8774-A4F6C22E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695-A154-473A-9466-907F67FC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69DE-759C-4759-A37D-6A86335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FC8D-0CCC-4B07-9ABD-7EE957A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CB28-B37F-46E4-8605-76B5C9B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E40D-AD98-4DCA-BF82-146E190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2211-1A0C-4825-A799-5CC800E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F5B2-BD42-40BA-BA46-AC83D94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3DB2-B520-43D9-8F3D-F56F9D0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0996-2FF4-49F2-A538-210039A0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3E03-6078-4830-9A22-2E317936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7D6D2-15DE-4C2E-BC60-98BE9ABA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479-8D56-4948-86C9-1542DB5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BC3F-2652-48FC-A9F4-AFD9CCE4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3FB3-EAF5-447F-9968-296D467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54B7-ADC9-4E63-8039-522ECE22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AD89C-7489-4295-BC13-DE91DE48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C68A-E54A-444A-9206-2AD63F6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2585-A982-4A44-B99D-00B92AE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1E9F-7CD0-474C-A4D9-34E41891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2390-1463-4F0E-B2D5-B6780AC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1A09-BFBC-456B-877F-44C5ABF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DBDF-D025-4ED0-8AB8-2CEAE640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0BD-915E-4B91-B279-46B45B3C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2A02-97E9-46E6-8F9C-38CE18BD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F816B-DDD8-44A3-B0D6-516AD0B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D6129-6078-45AC-8D5C-81AFA663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8A1FD-3230-4FB8-BE6B-A1881527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E086-9708-4D43-8A3E-0D67681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8BF2B-A616-423C-9DB6-75EABDA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B0B8-54E9-4BC7-940A-5601082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EB73-55C6-468C-B9B6-A74E6DD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414D-B87D-4C0E-B38E-60342A9F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47D9A-7FC9-4104-914B-82AE94B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896-5D99-4646-A7BE-E518BB00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7B85-5A92-487B-BEA2-26DCBA61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1A0E-661F-42AA-8AB8-5D3F3D9C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9A9EC-D2D4-4CDB-B298-BAFF41A8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303D-FD7D-4766-AD1F-ABE01633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E1D0-D82D-4FF9-AFB0-595317A0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CBB6E-E704-4EAB-B4B0-F7609FBF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1D34-4A4D-45DD-808D-6CDB2ED7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15D4-1425-4833-98B1-89C8CCE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A979-1963-474C-A433-472571D7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C9C9A-3C2A-4AE5-8A14-04630B3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714-3A11-47B4-9601-87FE46D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544C6-1A06-423C-B9E8-AC07600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D7DB-5C3F-40F4-8925-CBE917F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EE49-B109-442A-8BC7-8FCDE6C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2DCE-924C-48FB-8F74-0F42D39C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94DF-9D98-47C9-B9A4-64603267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28A3B-39E6-4AB8-BE5D-CF0E08EA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F1DF-482D-476B-A163-ADD1C4F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F4F84-AB32-49D2-831C-EFE2EF26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059C-5475-403C-9E1D-A192D4EC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713A2-F399-46A0-9EA9-C46868E0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BBE-1C96-4E7B-9EEC-B52765D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6AD7-539C-4566-A801-32B1737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589C-3D17-4D84-94C3-9B24B13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5D764-A2AC-460D-8CA1-3D15C38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D561-DC13-474A-8D39-9CC566E7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66C31-848F-443F-B091-94A4014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8BBE-F5CA-41FA-94C9-E7E81771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30894-DC64-437B-B797-2A822AE1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C8072-387D-4EB7-AD15-6329C2FC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1D02-30CB-4483-A779-BA14DF52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1650-A2D1-4934-BB4E-D5F27A9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7219-2E56-494B-B1A0-14E3E92645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972-84F5-43E9-B58B-9CFA001BD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2EA7-726D-4D9F-BDCF-7AA285737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AA7-6DAA-4AEF-BCE4-883A207E8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2B8-746A-4B10-A254-060F9D566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678-D096-451B-8F67-5DB28FC3D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962-ED20-403A-9AE5-1570807C99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8292-3EA3-41E6-A988-5C3CF5A06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A7CE-B381-455D-BDB7-756F058D84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B859-D054-4042-8308-43BA94CD3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3AD2-79B3-4FFE-8DE7-6A418C553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C10-0958-42F8-91FC-261B963C0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1C7-68B7-41A5-94C7-E59BF27B9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A822-0FAB-4951-BD18-441C3F7FD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5DA9-9402-405F-A3AB-C9EABEDCC8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0438-7A93-4CEC-A738-2A17641BA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CDF-6B4F-4E3E-9950-501722D4D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6EE-3E74-40FB-90F6-CFA59A1D6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4A31-9E57-4B97-A5A9-9CEA8C4E6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1B37-4A87-477C-B958-F136D952F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5182-8BC5-4D8E-BA28-B62C5FBB6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7B8F-B3F2-4556-BD8A-20A7BBF02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EE82-96A8-400D-B292-592A0CD5B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929-A189-434E-948F-60534C05A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AA77-FBEB-4B9B-B24F-683A64E02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CB50-0C32-47C2-B2E0-BCD1F377E2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DC42-A398-4F2B-A021-601E47FFE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2E74-B907-4351-80A7-F92EE48C5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BDA6-9820-4BA3-95E8-0C55FA162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B3A-5264-4B85-A5B0-2E1E1AF1B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A83-0CA0-47D8-A767-6208C1CD0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E250-3256-4D80-8C49-31A73F372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5C6-2EEF-4D99-AF98-5E74EFC2C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F0DF-FE2D-4789-9CF2-BBA295ABC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59CC-7452-48EC-98A3-93BA75B1C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5FD-2C7F-4B28-905D-183E037A6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3C3-EB76-4545-8C66-5B105AAAF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BCFD-BACB-4882-A85E-70D1B82FE2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C628-A99C-4CCC-8614-1102C0A32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0360" y="2600280"/>
            <a:ext cx="8963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3313" descr=""/>
          <p:cNvPicPr/>
          <p:nvPr/>
        </p:nvPicPr>
        <p:blipFill>
          <a:blip r:embed="rId1"/>
          <a:stretch/>
        </p:blipFill>
        <p:spPr>
          <a:xfrm>
            <a:off x="33480" y="1211400"/>
            <a:ext cx="9016920" cy="46274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2195640" y="2031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3"/>
          <a:stretch/>
        </p:blipFill>
        <p:spPr>
          <a:xfrm>
            <a:off x="2268360" y="2478240"/>
            <a:ext cx="360720" cy="320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4"/>
          <a:stretch/>
        </p:blipFill>
        <p:spPr>
          <a:xfrm>
            <a:off x="2268360" y="331308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5"/>
          <a:stretch/>
        </p:blipFill>
        <p:spPr>
          <a:xfrm>
            <a:off x="853272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6"/>
          <a:stretch/>
        </p:blipFill>
        <p:spPr>
          <a:xfrm>
            <a:off x="2268360" y="5013360"/>
            <a:ext cx="360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3" name="图片 14337" descr=""/>
          <p:cNvPicPr/>
          <p:nvPr/>
        </p:nvPicPr>
        <p:blipFill>
          <a:blip r:embed="rId1"/>
          <a:stretch/>
        </p:blipFill>
        <p:spPr>
          <a:xfrm>
            <a:off x="1757520" y="2190600"/>
            <a:ext cx="56289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5361" descr=""/>
          <p:cNvPicPr/>
          <p:nvPr/>
        </p:nvPicPr>
        <p:blipFill>
          <a:blip r:embed="rId1"/>
          <a:stretch/>
        </p:blipFill>
        <p:spPr>
          <a:xfrm>
            <a:off x="104760" y="1004760"/>
            <a:ext cx="8934480" cy="5448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5"/>
          <a:stretch/>
        </p:blipFill>
        <p:spPr>
          <a:xfrm>
            <a:off x="684360" y="4869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6"/>
          <a:stretch/>
        </p:blipFill>
        <p:spPr>
          <a:xfrm>
            <a:off x="639720" y="5661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395280" y="1450800"/>
            <a:ext cx="8120160" cy="3845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04292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1042920" y="4465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04292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21505" descr=""/>
          <p:cNvPicPr/>
          <p:nvPr/>
        </p:nvPicPr>
        <p:blipFill>
          <a:blip r:embed="rId1"/>
          <a:stretch/>
        </p:blipFill>
        <p:spPr>
          <a:xfrm>
            <a:off x="328680" y="1566720"/>
            <a:ext cx="8486640" cy="3724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547640" y="3270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643280" y="3270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759636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154764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4586400" y="49561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0" name="组合 20483"/>
          <p:cNvGrpSpPr/>
          <p:nvPr/>
        </p:nvGrpSpPr>
        <p:grpSpPr>
          <a:xfrm>
            <a:off x="115920" y="1166760"/>
            <a:ext cx="8848800" cy="5261040"/>
            <a:chOff x="115920" y="1166760"/>
            <a:chExt cx="8848800" cy="5261040"/>
          </a:xfrm>
        </p:grpSpPr>
        <p:pic>
          <p:nvPicPr>
            <p:cNvPr id="1041" name="图片 20481" descr=""/>
            <p:cNvPicPr/>
            <p:nvPr/>
          </p:nvPicPr>
          <p:blipFill>
            <a:blip r:embed="rId1"/>
            <a:stretch/>
          </p:blipFill>
          <p:spPr>
            <a:xfrm>
              <a:off x="115920" y="1166760"/>
              <a:ext cx="884880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图片 20482" descr=""/>
            <p:cNvPicPr/>
            <p:nvPr/>
          </p:nvPicPr>
          <p:blipFill>
            <a:blip r:embed="rId2"/>
            <a:stretch/>
          </p:blipFill>
          <p:spPr>
            <a:xfrm>
              <a:off x="439560" y="1989000"/>
              <a:ext cx="7705800" cy="443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8436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684360" y="51721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8193" descr=""/>
          <p:cNvPicPr/>
          <p:nvPr/>
        </p:nvPicPr>
        <p:blipFill>
          <a:blip r:embed="rId1"/>
          <a:stretch/>
        </p:blipFill>
        <p:spPr>
          <a:xfrm>
            <a:off x="390600" y="806400"/>
            <a:ext cx="8362800" cy="5791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971640" y="3097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1042920" y="5805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9217" descr=""/>
          <p:cNvPicPr/>
          <p:nvPr/>
        </p:nvPicPr>
        <p:blipFill>
          <a:blip r:embed="rId1"/>
          <a:stretch/>
        </p:blipFill>
        <p:spPr>
          <a:xfrm>
            <a:off x="100080" y="1881360"/>
            <a:ext cx="8943840" cy="3095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547640" y="2779560"/>
            <a:ext cx="1584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5003640" y="2781360"/>
            <a:ext cx="158436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7899480" y="2781360"/>
            <a:ext cx="120168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1403280" y="3241800"/>
            <a:ext cx="1201680" cy="3204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4932360" y="3241800"/>
            <a:ext cx="120168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1332000" y="4105440"/>
            <a:ext cx="1201680" cy="320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5003640" y="4105440"/>
            <a:ext cx="1202040" cy="3204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9"/>
          <a:stretch/>
        </p:blipFill>
        <p:spPr>
          <a:xfrm>
            <a:off x="7899480" y="4105440"/>
            <a:ext cx="1201680" cy="32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0"/>
          <a:stretch/>
        </p:blipFill>
        <p:spPr>
          <a:xfrm>
            <a:off x="1619280" y="4552920"/>
            <a:ext cx="120168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1"/>
          <a:stretch/>
        </p:blipFill>
        <p:spPr>
          <a:xfrm>
            <a:off x="4802040" y="4551480"/>
            <a:ext cx="120204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0241" descr=""/>
          <p:cNvPicPr/>
          <p:nvPr/>
        </p:nvPicPr>
        <p:blipFill>
          <a:blip r:embed="rId1"/>
          <a:stretch/>
        </p:blipFill>
        <p:spPr>
          <a:xfrm>
            <a:off x="179280" y="903240"/>
            <a:ext cx="8597880" cy="5189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82692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82692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82692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图片 12289" descr=""/>
          <p:cNvPicPr/>
          <p:nvPr/>
        </p:nvPicPr>
        <p:blipFill>
          <a:blip r:embed="rId1"/>
          <a:stretch/>
        </p:blipFill>
        <p:spPr>
          <a:xfrm>
            <a:off x="179280" y="1095480"/>
            <a:ext cx="8739360" cy="48942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6"/>
          <a:stretch/>
        </p:blipFill>
        <p:spPr>
          <a:xfrm>
            <a:off x="826920" y="52149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1265" descr=""/>
          <p:cNvPicPr/>
          <p:nvPr/>
        </p:nvPicPr>
        <p:blipFill>
          <a:blip r:embed="rId1"/>
          <a:stretch/>
        </p:blipFill>
        <p:spPr>
          <a:xfrm>
            <a:off x="919080" y="836640"/>
            <a:ext cx="6821640" cy="59133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1692360" y="2363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6"/>
          <a:stretch/>
        </p:blipFill>
        <p:spPr>
          <a:xfrm>
            <a:off x="1692360" y="335772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8:34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